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4EAF-D725-41A9-A9EC-E1D45E38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7D4F-C902-487D-B9E0-A75C5C0B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74FF-103F-4216-8BCA-8D899DE1D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5A50-D050-4668-BFB1-A9A74E2BE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DE83-B3BC-4B6B-95D1-D299492EF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B09A-9A91-4173-9661-294DCE76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F673-66A6-477F-A659-8A01A1F6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6927-1770-4677-91B0-CCE86CC4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1200-A579-44CB-9289-BB1C0BE7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FD90-AEA1-4442-B55B-FCF7CAAC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EE31-37BF-4F11-88B6-AEAFA4FA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AD6F-F758-4B6D-9776-32078BDC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8B97-391A-425E-AE9E-C4664A1A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B4D6-50C3-4173-9074-F95E26CE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E029-3ACE-4E8F-92C0-DFE1C8BD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52DB-4899-4EB0-ABAB-25D3BC1B4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5473-F02D-411B-84AB-E1186E7C6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0322-6EDC-4345-971F-3F4FEAED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B8BD-7FB6-41AD-ADC2-625A1FF8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8476-6A98-4A85-9F72-0F79C997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1B99-3D35-436D-A7E7-BBD4A92B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7D7A-E133-4C40-8BB9-795E7950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C2BF-A224-4F13-ADCC-752CB6C8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4E45-4BC3-4488-BFE9-E394E857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9E2D-D209-4CA6-9F9D-043EC44EF5FF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677F-F15A-46BD-BA64-3B3169C188B0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dbbd71"/>
                </a:solidFill>
                <a:latin typeface="Arial"/>
              </a:rPr>
              <a:t>انواع مرگ و صدور گواهي فوت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815328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bbd71"/>
                </a:solidFill>
                <a:latin typeface="Arial"/>
                <a:cs typeface="Titr"/>
              </a:rPr>
              <a:t>ت- مرگ بيماران پذيرش شده در بيمارستانها و مراكز درماني پيش از تشخيص بيماري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bbd71"/>
                </a:solidFill>
                <a:latin typeface="Arial"/>
                <a:cs typeface="Titr"/>
              </a:rPr>
              <a:t>ث- هر نوع مرگي كه سوال مقام قضائي راجع به نحوه فوت مطرح باشد.</a:t>
            </a:r>
            <a:r>
              <a:rPr b="0" lang="ar-S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dbbd71"/>
                </a:solidFill>
                <a:latin typeface="Arial"/>
                <a:cs typeface="Titr"/>
              </a:rPr>
              <a:t>علت فوت  </a:t>
            </a:r>
            <a:r>
              <a:rPr b="1" i="1" lang="en-US" sz="4800" spc="-1" strike="noStrike">
                <a:solidFill>
                  <a:srgbClr val="dbbd71"/>
                </a:solidFill>
                <a:latin typeface="Arial"/>
                <a:ea typeface="Titr"/>
              </a:rPr>
              <a:t>Cause of  death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ar-SA" sz="4000" spc="-1" strike="noStrike">
                <a:solidFill>
                  <a:srgbClr val="ffffff"/>
                </a:solidFill>
                <a:latin typeface="Tahoma"/>
                <a:cs typeface="Nazanin"/>
              </a:rPr>
              <a:t>عاملي ست كه بعداز وقوع  با ايجاد زنجيره اي رويدادها و تغييرات فيزيولوژيك منجر به فوت مي شود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ffffff"/>
                </a:solidFill>
                <a:latin typeface="Tahoma"/>
                <a:cs typeface="Nazanin"/>
              </a:rPr>
              <a:t>علت فوت در ابتداي اين زنجيره است ، با برداشتن آن بقيه موارد رخ نمي دهد.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fa-IR" sz="4400" spc="-1" strike="noStrike">
                <a:solidFill>
                  <a:srgbClr val="dbbd71"/>
                </a:solidFill>
                <a:latin typeface="Arial"/>
              </a:rPr>
              <a:t>)</a:t>
            </a: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Cause of Death</a:t>
            </a:r>
            <a:r>
              <a:rPr b="1" lang="fa-IR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dbbd71"/>
                </a:solidFill>
                <a:latin typeface="Arial"/>
              </a:rPr>
              <a:t>علت مرگ</a:t>
            </a:r>
            <a:r>
              <a:rPr b="1" lang="fa-IR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fa-IR" sz="4400" spc="-1" strike="noStrike">
                <a:solidFill>
                  <a:srgbClr val="dbbd71"/>
                </a:solidFill>
                <a:latin typeface="Arial"/>
              </a:rPr>
              <a:t>(</a:t>
            </a:r>
            <a:r>
              <a:rPr b="1" lang="ar-S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تعريف: علت مرگ يك بيماري و يا آسيب اتيولوژيك اختصاصي است كه با ايجاد اختلال فيزيولوژيك منجر به مرگ مي شود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علت اصلي يا مستقيم مرگ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علت زمينه اي مرگ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dbbd71"/>
                </a:solidFill>
                <a:latin typeface="Arial"/>
              </a:rPr>
              <a:t>(</a:t>
            </a:r>
            <a:r>
              <a:rPr b="1" lang="ar-SA" sz="2000" spc="-1" strike="noStrike">
                <a:solidFill>
                  <a:srgbClr val="dbbd71"/>
                </a:solidFill>
                <a:latin typeface="Arial"/>
              </a:rPr>
              <a:t>علت زمينه اي شروع كننده</a:t>
            </a:r>
            <a:r>
              <a:rPr b="1" lang="ar-SA" sz="2000" spc="-1" strike="noStrike">
                <a:solidFill>
                  <a:srgbClr val="dbbd71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dbbd71"/>
                </a:solidFill>
                <a:latin typeface="Arial"/>
              </a:rPr>
              <a:t>a          b           c           d </a:t>
            </a:r>
            <a:r>
              <a:rPr b="1" lang="fa-IR" sz="2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dbbd71"/>
                </a:solidFill>
                <a:latin typeface="Arial"/>
              </a:rPr>
              <a:t>( </a:t>
            </a:r>
            <a:r>
              <a:rPr b="1" lang="ar-SA" sz="2000" spc="-1" strike="noStrike">
                <a:solidFill>
                  <a:srgbClr val="dbbd71"/>
                </a:solidFill>
                <a:latin typeface="Arial"/>
              </a:rPr>
              <a:t>علت مستقيم يا اصلي</a:t>
            </a:r>
            <a:r>
              <a:rPr b="1" lang="ar-SA" sz="2000" spc="-1" strike="noStrike">
                <a:solidFill>
                  <a:srgbClr val="dbbd71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براي مثال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1-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علت مستقيم يا اصلي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)Pulmonary Embolism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علت زمينه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ای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)Pathological Fracture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)Secondary Carcinoma of femur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علت زمينه اي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علت زمينه اي شروع كننده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) Carcinoma of breast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2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علت مستقيم يا اصلي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)Haemorrhagic shock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علت زمينه اي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)Peritoneal haemorrhage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علت زمينه اي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)Rupture of liver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علت زمينه اي شروع كننده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)Road traffic accident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Line 4"/>
          <p:cNvSpPr/>
          <p:nvPr/>
        </p:nvSpPr>
        <p:spPr>
          <a:xfrm>
            <a:off x="3635280" y="907920"/>
            <a:ext cx="50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Line 5"/>
          <p:cNvSpPr/>
          <p:nvPr/>
        </p:nvSpPr>
        <p:spPr>
          <a:xfrm>
            <a:off x="4356000" y="9079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5364000" y="90792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dbbd71"/>
                </a:solidFill>
                <a:latin typeface="Arial"/>
                <a:cs typeface="Titr"/>
              </a:rPr>
              <a:t>تابلوي فوت </a:t>
            </a:r>
            <a:r>
              <a:rPr b="1" lang="en-US" sz="4400" spc="-1" strike="noStrike">
                <a:solidFill>
                  <a:srgbClr val="dbbd71"/>
                </a:solidFill>
                <a:latin typeface="Arial"/>
                <a:ea typeface="Titr"/>
              </a:rPr>
              <a:t>Mode  of  death</a:t>
            </a:r>
            <a:r>
              <a:rPr b="0" lang="fa-IR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523600"/>
            <a:ext cx="8229600" cy="36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ffffff"/>
                </a:solidFill>
                <a:latin typeface="Tahoma"/>
                <a:cs typeface="Zar"/>
              </a:rPr>
              <a:t>وضعيت فيزيوپاتولوژيكي است كه به هنگام فوت وجود داشته است و بيمار با آن فوت نموده است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ffffff"/>
                </a:solidFill>
                <a:latin typeface="Tahoma"/>
                <a:cs typeface="Zar"/>
              </a:rPr>
              <a:t>علل فوت متعدد است ولي      فيزيوپاتوژيكي زمان محدود است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ffffff"/>
                </a:solidFill>
                <a:latin typeface="Tahoma"/>
                <a:cs typeface="Zar"/>
              </a:rPr>
              <a:t>نارسائي قلبي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  <a:ea typeface="Zar"/>
              </a:rPr>
              <a:t>ARDS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  <a:cs typeface="Zar"/>
              </a:rPr>
              <a:t>،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  <a:ea typeface="Zar"/>
              </a:rPr>
              <a:t>DIC</a:t>
            </a:r>
            <a:r>
              <a:rPr b="1" i="1" lang="ar-SA" sz="2800" spc="-1" strike="noStrike">
                <a:solidFill>
                  <a:srgbClr val="ffffff"/>
                </a:solidFill>
                <a:latin typeface="Tahoma"/>
                <a:cs typeface="Zar"/>
              </a:rPr>
              <a:t>، هيپوو</a:t>
            </a:r>
            <a:r>
              <a:rPr b="1" i="1" lang="fa-IR" sz="2800" spc="-1" strike="noStrike">
                <a:solidFill>
                  <a:srgbClr val="ffffff"/>
                </a:solidFill>
                <a:latin typeface="Tahoma"/>
                <a:cs typeface="Zar"/>
              </a:rPr>
              <a:t>ل</a:t>
            </a:r>
            <a:r>
              <a:rPr b="1" i="1" lang="ar-SA" sz="2800" spc="-1" strike="noStrike">
                <a:solidFill>
                  <a:srgbClr val="ffffff"/>
                </a:solidFill>
                <a:latin typeface="Tahoma"/>
                <a:cs typeface="Zar"/>
              </a:rPr>
              <a:t>مي، آريتمي، نارسائي تنفسي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bbd71"/>
                </a:solidFill>
                <a:latin typeface="Arial"/>
                <a:cs typeface="Titr"/>
              </a:rPr>
              <a:t>نحوه فوت 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  <a:ea typeface="Titr"/>
              </a:rPr>
              <a:t>Manner of  death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280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cs typeface="Zar"/>
              </a:rPr>
              <a:t>نحوه فوت در اصل شرائطي است كه علت فوت در آن شرائط ايجاد مي گردد ومتعاقب آن با تابلوي فوت منجر به وقوع مرگ مي شود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</a:rPr>
              <a:t>طبيعي</a:t>
            </a:r>
            <a:r>
              <a:rPr b="1" i="1" lang="fa-IR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arn-C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arn-CL" sz="3200" spc="-1" strike="noStrike">
                <a:solidFill>
                  <a:srgbClr val="ffffff"/>
                </a:solidFill>
                <a:latin typeface="Tahoma"/>
              </a:rPr>
              <a:t>Natural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حادثه اي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arn-CL" sz="3200" spc="-1" strike="noStrike">
                <a:solidFill>
                  <a:srgbClr val="ffffff"/>
                </a:solidFill>
                <a:latin typeface="Tahoma"/>
              </a:rPr>
              <a:t>Accidental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خودكشي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arn-CL" sz="3200" spc="-1" strike="noStrike">
                <a:solidFill>
                  <a:srgbClr val="ffffff"/>
                </a:solidFill>
                <a:latin typeface="Tahoma"/>
              </a:rPr>
              <a:t>Suicidal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omicidal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د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يگركشي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ndetermin    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غیر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قابل تعيين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nclassified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طبقه بندي نشده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1a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28240" y="2421000"/>
            <a:ext cx="8915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5400" spc="-1" strike="noStrike">
                <a:solidFill>
                  <a:srgbClr val="ffffcc"/>
                </a:solidFill>
                <a:latin typeface="Tahoma"/>
                <a:cs typeface="Nazanin"/>
              </a:rPr>
              <a:t>تائيد فوت فرد، عدم لزوم ادامه اقدامات درماني و احياء ، مجوز انتقال به سردخانه</a:t>
            </a:r>
            <a:r>
              <a:rPr b="0" i="1" lang="en-US" sz="5400" spc="-1" strike="noStrike">
                <a:solidFill>
                  <a:srgbClr val="ffffcc"/>
                </a:solidFill>
                <a:latin typeface="Tahoma"/>
                <a:ea typeface="Nazanin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5400" spc="-1" strike="noStrike">
                <a:solidFill>
                  <a:srgbClr val="ffffcc"/>
                </a:solidFill>
                <a:latin typeface="Tahoma"/>
                <a:cs typeface="Nazanin"/>
              </a:rPr>
              <a:t>مجوزي براي دفن جنازه نيست و در آن علت فوت قيد نشده است.</a:t>
            </a:r>
            <a:r>
              <a:rPr b="0" i="1" lang="ar-SA" sz="5400" spc="-1" strike="noStrike">
                <a:solidFill>
                  <a:srgbClr val="ffffff"/>
                </a:solidFill>
                <a:latin typeface="Tahoma"/>
                <a:ea typeface="Nazanin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WordArt 4"/>
          <p:cNvSpPr txBox="1"/>
          <p:nvPr/>
        </p:nvSpPr>
        <p:spPr>
          <a:xfrm>
            <a:off x="2268360" y="620640"/>
            <a:ext cx="39625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tr"/>
              </a:rPr>
              <a:t>گواهي فوت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tr"/>
              <a:ea typeface="Titr"/>
            </a:endParaRPr>
          </a:p>
        </p:txBody>
      </p:sp>
    </p:spTree>
  </p:cSld>
  <p:transition>
    <p:wedge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dbbd71"/>
                </a:solidFill>
                <a:latin typeface="Arial"/>
                <a:cs typeface="Titr"/>
              </a:rPr>
              <a:t>پروانه(جواز) دفن</a:t>
            </a:r>
            <a:r>
              <a:rPr b="0" lang="ar-SA" sz="5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380880" y="2590920"/>
            <a:ext cx="8763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ffffff"/>
                </a:solidFill>
                <a:latin typeface="Yekta"/>
                <a:cs typeface="Zar"/>
              </a:rPr>
              <a:t>علت فوت تعيين شده و يا بررسي شده است و دفن جسد از نظر پزشكي بلامانع است.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dbbd71"/>
                </a:solidFill>
                <a:latin typeface="Arial"/>
                <a:cs typeface="Titr"/>
              </a:rPr>
              <a:t>مسئوليت صدور گواهي فوت و جواز دفن با كيست؟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768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768" fill="hold"/>
                                        <p:tgtEl>
                                          <p:spTgt spid="1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3" dur="768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5" dur="768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dbbd71"/>
                </a:solidFill>
                <a:latin typeface="Arial"/>
              </a:rPr>
              <a:t>تقسيم بندي انواع مرگ</a:t>
            </a:r>
            <a:r>
              <a:rPr b="0" lang="ar-S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atural death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Violent death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900000" y="3111120"/>
            <a:ext cx="79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تروما چنين تعريف مي شود 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تاثير ناگهاني و كم و بيش شديد و يا مستمر يك عامل خارجي بر بدن با آثار مستقيم يا غير مستقيم</a:t>
            </a:r>
            <a:r>
              <a:rPr b="1" lang="fa-I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a-IR" sz="2400" spc="-1" strike="noStrike">
                <a:solidFill>
                  <a:srgbClr val="ffffff"/>
                </a:solidFill>
                <a:latin typeface="Arial"/>
              </a:rPr>
              <a:t>.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1960" y="340920"/>
            <a:ext cx="7810560" cy="9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bbd71"/>
                </a:solidFill>
                <a:latin typeface="Arial"/>
                <a:cs typeface="Titr"/>
              </a:rPr>
              <a:t>اعلام كتبي فوت با پزشك است   ولي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15400" cy="5257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cs typeface="Zar"/>
              </a:rPr>
              <a:t>مسئولين اورژانس و پيراپزشكان در صورت وضوح وقوع مرگ بصورتي كه شك و ترديد نباشد ، ميتواند بصورت شفاهي در صورت عدم حضور پزشك فوت را گواهي كند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cc66"/>
                </a:solidFill>
                <a:latin typeface="Tahoma"/>
                <a:cs typeface="Zar"/>
              </a:rPr>
              <a:t>ولي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cs typeface="Zar"/>
              </a:rPr>
              <a:t>مسئول صدور دفن پزشكان هستند. بايد تابلو فوت وعلت فوت مشخص باشد كه در حيطه كادر پزشكي است و دندانپزشكان ، داروسازان و… مجاز به صدور جواز دفن نمي باشند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dbbd71"/>
                </a:solidFill>
                <a:latin typeface="Arial"/>
                <a:cs typeface="Titr"/>
              </a:rPr>
              <a:t>پس پزشك در زمان صدور جواز دفن بايد :</a:t>
            </a:r>
            <a:r>
              <a:rPr b="0" lang="ar-SA" sz="4400" spc="-1" strike="noStrike">
                <a:solidFill>
                  <a:srgbClr val="dbbd71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cs typeface="Zar"/>
              </a:rPr>
              <a:t>بطور قطعي از وقوع فوت مطمئن شود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cs typeface="Zar"/>
              </a:rPr>
              <a:t>تابلوي فوت، علت فوت و در موارد قانوني نحوه فوت را مشخص نمايد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cs typeface="Zar"/>
              </a:rPr>
              <a:t>در موقع معاينه بدقت به معاينه جسد بپردازد ، تا آثار ضرب و جرح و يا بافت غيرطبيعي در در بدن فرد او را از نظر نماند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cs typeface="Zar"/>
              </a:rPr>
              <a:t>تعيين دقيق علت فوت تا زمينه بررسي هاي اپيدميولوژيك و آماري فراهم شود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3840" cy="9525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21a64"/>
                </a:solidFill>
                <a:latin typeface="Arial"/>
                <a:cs typeface="Titr"/>
              </a:rPr>
              <a:t>تشخيص مرگ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Zar"/>
              </a:rPr>
              <a:t>ابتدا از فقدان علائم حياتي مطمئن مي شويم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Zar"/>
              </a:rPr>
              <a:t>رفلكس ها را چك مي كنيم : مردمك ، قرنيه ، ته حلق ، چها سر ران و….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Zar"/>
              </a:rPr>
              <a:t>بي حركتي و پائين بودن دماي پوست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Zar"/>
              </a:rPr>
              <a:t>درصورت امكان ديدن ته چشم و قطع جريان خون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Zar"/>
              </a:rPr>
              <a:t>در صورت امكان استفاده از وسائل مثل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Zar"/>
              </a:rPr>
              <a:t>EEG ,ECG</a:t>
            </a:r>
            <a:r>
              <a:rPr b="0" lang="ar-SA" sz="3600" spc="-1" strike="noStrike">
                <a:solidFill>
                  <a:srgbClr val="ffffff"/>
                </a:solidFill>
                <a:latin typeface="Tahoma"/>
                <a:ea typeface="Zar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ea typeface="Zar"/>
              </a:rPr>
              <a:t> معاينه حداقل بايستي بيست دقيقه طول بكشد. (معاينه قلب و بررسي نبض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dbbd71"/>
                </a:solidFill>
                <a:latin typeface="Arial"/>
              </a:rPr>
              <a:t>گواهي فوت استاندارد بايستي داراي چه اجزايي باشد؟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1-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هويت فرد فوت شد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ف- افراد داراي شناسنام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ب-جنين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،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نوزاد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،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كودكان فاقد شناسن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امه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2-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علت فو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3-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تاريخ فو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4-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تاريخ و محل معاين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5-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آدر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6-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مشخصات پزشك صادر كننده گواهي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dbbd71"/>
                </a:solidFill>
                <a:latin typeface="Arial"/>
              </a:rPr>
              <a:t>نکته بسیار مهم ازنظر مراجع قضایی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Tahoma"/>
              </a:rPr>
              <a:t>آیا جنایتی رخ داده است یا خیر ؟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dbbd71"/>
                </a:solidFill>
                <a:latin typeface="Arial"/>
              </a:rPr>
              <a:t>تقسيم بندي انواع</a:t>
            </a:r>
            <a:r>
              <a:rPr b="0" lang="ar-SA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dbbd71"/>
                </a:solidFill>
                <a:latin typeface="Arial"/>
              </a:rPr>
              <a:t>تروما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تروماي فيزيكي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مکانیکی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الکتریکی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حرارتی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رادیاسیون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بارو تروما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تروماي شيميايي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ترومای روان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06472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                               </a:t>
            </a:r>
            <a:r>
              <a:rPr b="1" lang="en-US" sz="3200" spc="-1" strike="noStrike">
                <a:solidFill>
                  <a:srgbClr val="dbbd71"/>
                </a:solidFill>
                <a:latin typeface="Arial"/>
              </a:rPr>
              <a:t>NOn Suspicious death </a:t>
            </a:r>
            <a:br>
              <a:rPr sz="3200"/>
            </a:br>
            <a:br>
              <a:rPr sz="2800"/>
            </a:br>
            <a:r>
              <a:rPr b="1" lang="ar-SA" sz="2800" spc="-1" strike="noStrike">
                <a:solidFill>
                  <a:srgbClr val="dbbd71"/>
                </a:solidFill>
                <a:latin typeface="Arial"/>
              </a:rPr>
              <a:t>. </a:t>
            </a:r>
            <a:r>
              <a:rPr b="1" lang="ar-SA" sz="2800" spc="-1" strike="noStrike">
                <a:solidFill>
                  <a:srgbClr val="dbbd71"/>
                </a:solidFill>
                <a:latin typeface="Arial"/>
              </a:rPr>
              <a:t>چنانچه پزشك دقيقا" علت فوت ر</a:t>
            </a:r>
            <a:r>
              <a:rPr b="1" lang="fa-IR" sz="2800" spc="-1" strike="noStrike">
                <a:solidFill>
                  <a:srgbClr val="dbbd71"/>
                </a:solidFill>
                <a:latin typeface="Arial"/>
              </a:rPr>
              <a:t>ا</a:t>
            </a:r>
            <a:r>
              <a:rPr b="1" lang="ar-SA" sz="2800" spc="-1" strike="noStrike">
                <a:solidFill>
                  <a:srgbClr val="dbbd71"/>
                </a:solidFill>
                <a:latin typeface="Arial"/>
              </a:rPr>
              <a:t> بداند و اطمينان داشته باشد كه مرگ منحصرا" ناشي از يك بيماري بوده و هيچ عامل ديگري</a:t>
            </a:r>
            <a:r>
              <a:rPr b="1" lang="fa-IR" sz="2800" spc="-1" strike="noStrike">
                <a:solidFill>
                  <a:srgbClr val="dbbd71"/>
                </a:solidFill>
                <a:latin typeface="Arial"/>
              </a:rPr>
              <a:t>  در</a:t>
            </a:r>
            <a:r>
              <a:rPr b="1" lang="ar-SA" sz="2800" spc="-1" strike="noStrike">
                <a:solidFill>
                  <a:srgbClr val="dbbd71"/>
                </a:solidFill>
                <a:latin typeface="Arial"/>
              </a:rPr>
              <a:t>فوت بيمار مؤثر نمي باشد واحتمال وقوع شكايتي در آينده نم</a:t>
            </a:r>
            <a:r>
              <a:rPr b="1" lang="fa-IR" sz="2800" spc="-1" strike="noStrike">
                <a:solidFill>
                  <a:srgbClr val="dbbd71"/>
                </a:solidFill>
                <a:latin typeface="Arial"/>
              </a:rPr>
              <a:t>یرود</a:t>
            </a:r>
            <a:r>
              <a:rPr b="1" lang="ar-SA" sz="24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60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3640" y="3213000"/>
            <a:ext cx="82818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uspicious dea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گر پزشك در مورد علت فوت و دخالت عوامل ديگري غير از بيماري كوچكترين ابهامي داشته و يا اينكه تشخيص بدهد كه تروما يا آسيبي علت فوت بوده و يا در فوت نقش داشته است و يا احتمال وقوع شكايتي را در آينده بدهد </a:t>
            </a:r>
            <a:r>
              <a:rPr b="1" lang="fa-IR" sz="2800" spc="-1" strike="noStrike">
                <a:solidFill>
                  <a:srgbClr val="ffffff"/>
                </a:solidFill>
                <a:latin typeface="Tahoma"/>
              </a:rPr>
              <a:t>در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ينصورت مرگ مشكوك بوده و جسد بايد به پزشكي قانوني ارجاع شود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dbbd71"/>
                </a:solidFill>
                <a:latin typeface="Arial"/>
                <a:cs typeface="Titr"/>
              </a:rPr>
              <a:t>چه مرگهايي بايد به پزشكي قانوني ارجاع شود؟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db1dae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21a64"/>
                </a:solidFill>
                <a:latin typeface="Arial"/>
                <a:cs typeface="Titr"/>
              </a:rPr>
              <a:t>الف- مرگهاي غيرطبيعي </a:t>
            </a:r>
            <a:r>
              <a:rPr b="0" lang="en-US" sz="3600" spc="-1" strike="noStrike">
                <a:solidFill>
                  <a:srgbClr val="d21a64"/>
                </a:solidFill>
                <a:latin typeface="Arial"/>
                <a:ea typeface="Titr"/>
              </a:rPr>
              <a:t>Un natural  death</a:t>
            </a:r>
            <a:r>
              <a:rPr b="0" lang="fa-IR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مرگ متعاقب تصادف و حادثه (حتي اگر بيمار چند ماه بعد از تصادف فوت كند. 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2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خودكش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3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سوختگي ها و خود سوز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4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قت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5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مرگ بدنبال مسموميت داروئي و شيميايي از جمله سوء مصرف موا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6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برق گرفتگي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68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68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68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68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523280" cy="60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7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- غرق شدگي </a:t>
            </a:r>
            <a:br>
              <a:rPr sz="3200"/>
            </a:b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8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- مرگ ناشي از صدمات سلاحهاي سردوگرم </a:t>
            </a:r>
            <a:br>
              <a:rPr sz="3200"/>
            </a:b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9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- مرگ ناگهاني ، غيرمنتظره و غيرقابل توجيه </a:t>
            </a:r>
            <a:br>
              <a:rPr sz="3200"/>
            </a:b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10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- مرگ متعاقب نزاع و مشاجره (حتي لفظي)</a:t>
            </a:r>
            <a:br>
              <a:rPr sz="3200"/>
            </a:b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11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- كودك آزاري يا شك به آن </a:t>
            </a:r>
            <a:br>
              <a:rPr sz="3200"/>
            </a:b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12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- مرگ حين كار </a:t>
            </a:r>
            <a:br>
              <a:rPr sz="3200"/>
            </a:b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13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- مرگ متعاقب سقط جنين</a:t>
            </a:r>
            <a:r>
              <a:rPr b="1" i="1" lang="ar-SA" sz="4000" spc="-1" strike="noStrike">
                <a:solidFill>
                  <a:srgbClr val="dbbd71"/>
                </a:solidFill>
                <a:latin typeface="Arial"/>
                <a:ea typeface="Zar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bbd71"/>
                </a:solidFill>
                <a:latin typeface="Arial"/>
                <a:cs typeface="Titr"/>
              </a:rPr>
              <a:t>ب- مرگهاي به ظاهر طبيعي در شرايط غيرطبيعي :</a:t>
            </a:r>
            <a:r>
              <a:rPr b="0" lang="ar-S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   مرگ در بازداشتگاهها و زندانها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2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  مرگ در خانه سالمندان و مراكز بهزيست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3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مرگ در مراكز نظامي، مجتمع هاي خوابگاه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4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مرگ در مناطق دور افتاده و غيرمعمو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bbd71"/>
                </a:solidFill>
                <a:latin typeface="Arial"/>
                <a:cs typeface="Titr"/>
              </a:rPr>
              <a:t>پ- مرگ ناشي از اقدامات درماني و قصور پزشكي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مرگهاي حين عمل جراح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2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مرگهاي حين يا بعد از بيهوش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3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مرگ بدنبال اقدامات درماني خا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4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مرگ بدنبال اشتباهات پزشك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5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مرگ حين درمان كه بيم طرح شكايت مي رو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10:59:39Z</dcterms:created>
  <dc:creator>ID SYSTEM</dc:creator>
  <dc:description/>
  <dc:language>en-US</dc:language>
  <cp:lastModifiedBy>khoshpey</cp:lastModifiedBy>
  <dcterms:modified xsi:type="dcterms:W3CDTF">2020-07-21T08:25:41Z</dcterms:modified>
  <cp:revision>55</cp:revision>
  <dc:subject/>
  <dc:title>انواع مرگها و صدور گواهي فوت</dc:title>
</cp:coreProperties>
</file>